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47D-2370-45D2-A218-EE6E2807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D91-4BBE-4588-8870-F8D5BD8F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3E6-1192-4CEF-8995-6D184E70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4F6-2BD7-4678-ADD6-D7C1A5E2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681-9B6B-43B3-9F13-EA970022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908-BB47-4599-A684-E5FF12EF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0BE-BEA4-4D19-9691-DBA42EF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A75-224F-47DB-A399-64A0B034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C71-5255-4B8D-9DDD-872DC888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ED2-5407-415F-A34B-647F5F4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4AE-9A6D-434C-8C55-E285BC54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839-5172-400F-9853-D188755A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9B52-3654-41BF-865F-8A2DAE00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ow to set up a Pageflakes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n a new window and get up the Board of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1579680"/>
            <a:ext cx="70372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roll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08920" cy="533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96000" y="3213000"/>
            <a:ext cx="1368360" cy="1152720"/>
          </a:xfrm>
          <a:prstGeom prst="ellipse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796000" y="4436640"/>
            <a:ext cx="5763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5300640"/>
            <a:ext cx="1584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459080"/>
            <a:ext cx="7197840" cy="5398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812000" y="5013360"/>
            <a:ext cx="576360" cy="503280"/>
          </a:xfrm>
          <a:prstGeom prst="ellipse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py from the address bar and place it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1379520"/>
            <a:ext cx="7304040" cy="547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32000" y="1916280"/>
            <a:ext cx="2519280" cy="36036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ste i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28040" cy="5045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3708360" y="1197000"/>
            <a:ext cx="1727280" cy="223200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3213000"/>
            <a:ext cx="649440" cy="432000"/>
          </a:xfrm>
          <a:prstGeom prst="ellipse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219640" y="620280"/>
            <a:ext cx="266544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12000" y="333360"/>
            <a:ext cx="133200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ve a go on Teachers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00760" cy="5100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48360" y="4508640"/>
            <a:ext cx="792000" cy="36036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the rest yourself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324080"/>
            <a:ext cx="73789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1. Log on to Pagefl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1187280"/>
            <a:ext cx="75596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Click ‘Sign up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87280"/>
            <a:ext cx="7559640" cy="567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48360" y="2133720"/>
            <a:ext cx="792000" cy="576000"/>
          </a:xfrm>
          <a:prstGeom prst="ellipse">
            <a:avLst/>
          </a:prstGeom>
          <a:solidFill>
            <a:srgbClr val="ffff00">
              <a:alpha val="33000"/>
            </a:srgbClr>
          </a:solidFill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2708280"/>
            <a:ext cx="647640" cy="7920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Enter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1293840"/>
            <a:ext cx="74170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Begin to creat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199280" cy="539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87640" y="3284640"/>
            <a:ext cx="432000" cy="28872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419640" y="3500280"/>
            <a:ext cx="720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4076640"/>
            <a:ext cx="194472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dit button is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199280" cy="539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 flipV="1">
            <a:off x="2627280" y="2852280"/>
            <a:ext cx="345744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076640"/>
            <a:ext cx="2087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Add a Pag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a blank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6012000" y="2997000"/>
            <a:ext cx="1944720" cy="194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4941720"/>
            <a:ext cx="237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oose one 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1351080"/>
            <a:ext cx="7342200" cy="550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 flipV="1">
            <a:off x="1403280" y="5589720"/>
            <a:ext cx="144000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6237360"/>
            <a:ext cx="2881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add a personal RSS 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you should 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280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23:34:11Z</dcterms:created>
  <dc:creator>New User</dc:creator>
  <dc:description/>
  <dc:language>en-US</dc:language>
  <cp:lastModifiedBy>New User</cp:lastModifiedBy>
  <dcterms:modified xsi:type="dcterms:W3CDTF">2009-06-23T23:34:22Z</dcterms:modified>
  <cp:revision>1</cp:revision>
  <dc:subject/>
  <dc:title>How to set up a Pageflakes page</dc:title>
</cp:coreProperties>
</file>